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C6E-6D67-4364-9F4B-F9A01E33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435-57B4-4C6D-A347-225296D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07F-BD33-4DBF-A92A-D46F201F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781-F548-4EE7-9FC6-F59C69C8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FA4-77F7-46D3-B366-8CF4DFC7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70D-6B4C-49ED-BA5F-F81B30E0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E9-CDB9-4D6A-A54C-59489CB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782-CF7E-4E8E-9571-9C680722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F7F-3FD3-44B7-9618-0E6A9CA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58-60C2-4F58-B5BC-B44B0A19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5A0-340D-425D-A51B-4614C05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722-B6F3-4F8F-8C21-35DF7F9F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A82-B055-4B89-BB2F-F15414AFD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flammatory markers in peripheral blood in patients with asth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mitrievska D, Zdraveska M, Todevski D, Tushevska Mitkovska M, Chamurovski N,  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I University Clinic of Pulmology and Allergy, Skopje, Macedo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is study includes 30 patients of the Pulmology and Allergy Clinic, Skopje, with confirmed asthma, treated with ICS. In all of the patients we followed Eo count, ECP and IL-5  in peripheral blood at the beginning of the study, after 2 and 6 months treatment.  Following the parameters during treatment with ICS we registered changes in all of the tested parameter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520" y="1752480"/>
            <a:ext cx="4041720" cy="4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91120" cy="1447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478080" y="3581280"/>
            <a:ext cx="338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1: Serum level of the IL-5 during 6 months trea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4191120" cy="17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1"/>
          <p:cNvSpPr/>
          <p:nvPr/>
        </p:nvSpPr>
        <p:spPr>
          <a:xfrm>
            <a:off x="322200" y="5715000"/>
            <a:ext cx="39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2: Total Eo count in peripheral blood during 6 months treat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41148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3"/>
          <p:cNvSpPr/>
          <p:nvPr/>
        </p:nvSpPr>
        <p:spPr>
          <a:xfrm>
            <a:off x="4894200" y="3581280"/>
            <a:ext cx="30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raf icon 3: level of the ECP during 6 months treat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4267080"/>
          <a:ext cx="4190760" cy="10969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60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. of vari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4695480" y="53341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able 1:The changes of all parameters are statistically significant, with p &lt; 0.0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198720" y="5867280"/>
            <a:ext cx="88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ICS objectively suppress the inflammatory reaction in asthma and the biologic markers (IL-5, Eo and ECP), which we have followed, can  measure the accomplished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ffect. They could be used in every day practice, not only as diagnostic parameters but also as valid therapeutic guides in the treatment of asthm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8:10:09Z</dcterms:created>
  <dc:creator>User</dc:creator>
  <dc:description/>
  <dc:language>en-US</dc:language>
  <cp:lastModifiedBy>User</cp:lastModifiedBy>
  <dcterms:modified xsi:type="dcterms:W3CDTF">2020-12-04T18:41:53Z</dcterms:modified>
  <cp:revision>2</cp:revision>
  <dc:subject/>
  <dc:title>Inflammatory markers in peripheral blood in patients with asthma Dimitrievska D, Zdraveska M, Todevski D, Tushevska Mitkovska M, Chamurovski N,   PHI University Clinic of Pulmology and Allergy, Skopje, Macedonia</dc:title>
</cp:coreProperties>
</file>