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FACD-4D58-42FA-B57F-226509FD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7BCF-A6FE-4CB5-A5C7-074C1A37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87A5-BBE2-4625-AF55-675B7C99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526A-2E5F-4DCD-BDC1-B7D006C8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4BB5-CFF1-4FB9-9DF3-30D921F9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1F5D-1344-48C3-9342-385EDBB0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99B0-1806-45E7-AAB8-9CDADE06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2B1-BB10-42A6-AEAC-4ABF624F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49A0-C79F-4161-98B7-82ACD65E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8FE8-FE74-42D9-B6D1-34DD15FB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79E3-90E4-4544-A710-185DEE09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A599-D3A4-4BFF-B2BF-1AB7BD1E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C91D-3424-45C4-805F-FE1B0FB79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flammatory markers in peripheral blood in patients with asthma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imitrievska D, Zdraveska M, Todevski D, Tushevska Mitkovska M, Chamurovski N,  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HI University Clinic of Pulmology and Allergy, Skopje, Macedon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0773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is study includes 30 patients of the Pulmology and Allergy Clinic, Skopje, with confirmed asthma, treated with ICS. In all of the patients we followed Eo count, ECP and IL-5  in peripheral blood at the beginning of the study, after 2 and 6 months treatment.  Following the parameters during treatment with ICS we registered changes in all of the tested parameter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520" y="1752480"/>
            <a:ext cx="4041720" cy="4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4191120" cy="1447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9"/>
          <p:cNvSpPr/>
          <p:nvPr/>
        </p:nvSpPr>
        <p:spPr>
          <a:xfrm>
            <a:off x="478080" y="3581280"/>
            <a:ext cx="338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raf icon 1: Serum level of the IL-5 during 6 months treat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228600" y="3962520"/>
            <a:ext cx="4191120" cy="178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11"/>
          <p:cNvSpPr/>
          <p:nvPr/>
        </p:nvSpPr>
        <p:spPr>
          <a:xfrm>
            <a:off x="322200" y="5715000"/>
            <a:ext cx="39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raf icon 2: Total Eo count in peripheral blood during 6 months treat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4648320" y="2133720"/>
            <a:ext cx="4114800" cy="1523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13"/>
          <p:cNvSpPr/>
          <p:nvPr/>
        </p:nvSpPr>
        <p:spPr>
          <a:xfrm>
            <a:off x="4894200" y="3581280"/>
            <a:ext cx="303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raf icon 3: level of the ECP during 6 months treat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48320" y="4267080"/>
          <a:ext cx="4190760" cy="1096920"/>
        </p:xfrm>
        <a:graphic>
          <a:graphicData uri="http://schemas.openxmlformats.org/drawingml/2006/table">
            <a:tbl>
              <a:tblPr/>
              <a:tblGrid>
                <a:gridCol w="1047600"/>
                <a:gridCol w="1047960"/>
                <a:gridCol w="1047600"/>
                <a:gridCol w="104760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L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C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2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. of varia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0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Box 15"/>
          <p:cNvSpPr/>
          <p:nvPr/>
        </p:nvSpPr>
        <p:spPr>
          <a:xfrm>
            <a:off x="4695480" y="53341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able 1:The changes of all parameters are statistically significant, with p &lt; 0.0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6"/>
          <p:cNvSpPr/>
          <p:nvPr/>
        </p:nvSpPr>
        <p:spPr>
          <a:xfrm>
            <a:off x="198720" y="5867280"/>
            <a:ext cx="8843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ICS objectively suppress the inflammatory reaction in asthma and the biologic markers (IL-5, Eo and ECP), which we have followed, can  measure the accomplished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ffect. They could be used in every day practice, not only as diagnostic parameters but also as valid therapeutic guides in the treatment of asthm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4T18:10:09Z</dcterms:created>
  <dc:creator>User</dc:creator>
  <dc:description/>
  <dc:language>en-US</dc:language>
  <cp:lastModifiedBy>User</cp:lastModifiedBy>
  <dcterms:modified xsi:type="dcterms:W3CDTF">2020-12-04T18:41:53Z</dcterms:modified>
  <cp:revision>2</cp:revision>
  <dc:subject/>
  <dc:title>Inflammatory markers in peripheral blood in patients with asthma Dimitrievska D, Zdraveska M, Todevski D, Tushevska Mitkovska M, Chamurovski N,   PHI University Clinic of Pulmology and Allergy, Skopje, Macedonia</dc:title>
</cp:coreProperties>
</file>