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98F8-E7FC-4149-A039-F81298B1A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6157-EB83-45D3-88F4-059636AD2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УН истиче забринутост због деце са инвалидитетом која се образује у одвојеним срединама, сугерирајући да ће они добити супстандардно образовањ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65A2-5FB4-4E91-A158-776AFD4D1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to MIRA I VLADIMIR FOR INVITATION</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7E69-9670-420E-AF43-28E55B7BC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will discus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321F-EAC2-4F9C-8F2A-BA72D89E9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60FB-A69E-4260-AA64-427F38BA2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о што с правом тврде, „региони су још увек далеко од ефективног спровођења концепта инклузивног образовања као трансформације образовног система у целини“ (159), а бројне земље се још увек усредсређују или на посебне потребе, или на друге маргинализоване груп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9EAA-7685-485A-A9DB-3D0F9C19C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Times New Roman"/>
                <a:ea typeface="Times New Roman"/>
              </a:rPr>
              <a:t>ИО </a:t>
            </a:r>
            <a:r>
              <a:rPr b="0" lang="ru-RU" sz="1200" spc="-1" strike="noStrike">
                <a:solidFill>
                  <a:srgbClr val="000000"/>
                </a:solidFill>
                <a:latin typeface="Times New Roman"/>
                <a:ea typeface="Times New Roman"/>
              </a:rPr>
              <a:t>је оспораван појам од његовог појављивања, с јаким заговорницима, као и снажним противници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CDE9-7A68-4966-B677-68760757D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E8A6-D878-4BEB-92ED-0C3D8A55B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ћина инклузивиста говори за децу са </a:t>
            </a:r>
            <a:r>
              <a:rPr b="0" lang="mk-MK" sz="1200" spc="-1" strike="noStrike">
                <a:solidFill>
                  <a:srgbClr val="000000"/>
                </a:solidFill>
                <a:latin typeface="Calibri"/>
              </a:rPr>
              <a:t>сензорним </a:t>
            </a:r>
            <a:r>
              <a:rPr b="0" lang="ru-RU" sz="1200" spc="-1" strike="noStrike">
                <a:solidFill>
                  <a:srgbClr val="000000"/>
                </a:solidFill>
                <a:latin typeface="Calibri"/>
              </a:rPr>
              <a:t>оштећењима, поремећаји у учењу, поремећаји понашања и блага ментална ретардациј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ћина тотално инклузивиста представљају децу са тешким инвалидитет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ују да је основни посао </a:t>
            </a:r>
            <a:r>
              <a:rPr b="0" lang="mk-MK" sz="1200" spc="-1" strike="noStrike">
                <a:solidFill>
                  <a:srgbClr val="000000"/>
                </a:solidFill>
                <a:latin typeface="Calibri"/>
              </a:rPr>
              <a:t>едукатора је</a:t>
            </a:r>
            <a:r>
              <a:rPr b="0" lang="ru-RU" sz="1200" spc="-1" strike="noStrike">
                <a:solidFill>
                  <a:srgbClr val="000000"/>
                </a:solidFill>
                <a:latin typeface="Calibri"/>
              </a:rPr>
              <a:t> помоћи деци са СР да успоставе пријатељства са децама који немају СР. Стварање пријатељства, промена става и развој социјалних вештина могу се развитти само у редовним школа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виђају да ће елиминацијом посебних школа учитељи морају да трансформишу часове која одговарају свих дец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426C-F638-4EE2-BE2B-BF55E082D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B4F3E-BD4E-4629-AB01-1BF63EF9B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93B5-29C6-42FA-9086-08E044BE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21CB2-6578-4CE2-AC7C-51A907A65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54478-9D6E-4709-9CAB-46F50D21A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D4D8-BC9F-4F2C-A471-462F6DEA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81935-9CE0-4EA2-A47A-F0A39C856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41E9-9608-40C4-AE18-9FCB76DB7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0D7AF-245F-4721-A3E8-B916B71A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49816-CC85-4EFD-8F67-9BB6AE0C9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72FA-E51E-4C2E-A30D-B91FED25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23F9-3A91-4CCF-8F20-16A219B21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0371-92E6-4D17-AE0F-42AF4D4E6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E254-1EC4-4ABA-A727-70B06E4C6CF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6643800" y="571680"/>
            <a:ext cx="2214360" cy="1500120"/>
          </a:xfrm>
          <a:prstGeom prst="rect">
            <a:avLst/>
          </a:prstGeom>
          <a:solidFill>
            <a:srgbClr val="daede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155520" y="4731840"/>
            <a:ext cx="6408720" cy="158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Дали су редовне школе спремне за </a:t>
            </a:r>
            <a:r>
              <a:rPr b="1" lang="mk-MK" sz="3600" spc="-1" strike="noStrike">
                <a:solidFill>
                  <a:srgbClr val="000000"/>
                </a:solidFill>
                <a:latin typeface="Times New Roman"/>
                <a:ea typeface="Times New Roman"/>
              </a:rPr>
              <a:t>тоталну инклузију</a:t>
            </a:r>
            <a:r>
              <a:rPr b="1" lang="ru-RU" sz="3600" spc="-1" strike="noStrike">
                <a:solidFill>
                  <a:srgbClr val="000000"/>
                </a:solidFill>
                <a:latin typeface="Times New Roman"/>
                <a:ea typeface="Times New Roman"/>
              </a:rPr>
              <a:t> ученика са сметњама у развој</a:t>
            </a:r>
            <a:endParaRPr b="0" lang="en-US" sz="3600" spc="-1" strike="noStrike">
              <a:solidFill>
                <a:srgbClr val="000000"/>
              </a:solidFill>
              <a:latin typeface="Arial"/>
            </a:endParaRPr>
          </a:p>
        </p:txBody>
      </p:sp>
      <p:sp>
        <p:nvSpPr>
          <p:cNvPr id="50" name="Straight Connector 2"/>
          <p:cNvSpPr/>
          <p:nvPr/>
        </p:nvSpPr>
        <p:spPr>
          <a:xfrm>
            <a:off x="7143840" y="4714920"/>
            <a:ext cx="0" cy="15843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Rectangle 4"/>
          <p:cNvSpPr/>
          <p:nvPr/>
        </p:nvSpPr>
        <p:spPr>
          <a:xfrm>
            <a:off x="7000920" y="4857840"/>
            <a:ext cx="214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15153"/>
                </a:solidFill>
                <a:latin typeface="Times New Roman"/>
                <a:ea typeface="Times New Roman"/>
              </a:rPr>
              <a:t>12-14. Септембр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15153"/>
                </a:solidFill>
                <a:latin typeface="Times New Roman"/>
                <a:ea typeface="Times New Roman"/>
              </a:rPr>
              <a:t>  </a:t>
            </a:r>
            <a:r>
              <a:rPr b="1" lang="ru-RU" sz="2200" spc="-1" strike="noStrike">
                <a:solidFill>
                  <a:srgbClr val="015153"/>
                </a:solidFill>
                <a:latin typeface="Times New Roman"/>
                <a:ea typeface="Times New Roman"/>
              </a:rPr>
              <a:t>2019</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15153"/>
                </a:solidFill>
                <a:latin typeface="Times New Roman"/>
                <a:ea typeface="Times New Roman"/>
              </a:rPr>
              <a:t>Нови Сад</a:t>
            </a:r>
            <a:endParaRPr b="0" lang="en-US" sz="2200" spc="-1" strike="noStrike">
              <a:solidFill>
                <a:srgbClr val="000000"/>
              </a:solidFill>
              <a:latin typeface="Arial"/>
            </a:endParaRPr>
          </a:p>
        </p:txBody>
      </p:sp>
      <p:pic>
        <p:nvPicPr>
          <p:cNvPr id="52" name="Picture 7" descr="Image result for drustvo defektologa vojvodine"/>
          <p:cNvPicPr/>
          <p:nvPr/>
        </p:nvPicPr>
        <p:blipFill>
          <a:blip r:embed="rId2"/>
          <a:stretch/>
        </p:blipFill>
        <p:spPr>
          <a:xfrm>
            <a:off x="6643800" y="214200"/>
            <a:ext cx="228600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00040" y="100008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Н истиче забринутост због деце са СР која се образује у одвојеним срединама, сугерирајући да ће они добити супстандардно образовањ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то је УН, </a:t>
            </a:r>
            <a:r>
              <a:rPr b="1" lang="mk-MK" sz="2400" spc="-1" strike="noStrike">
                <a:solidFill>
                  <a:srgbClr val="000000"/>
                </a:solidFill>
                <a:latin typeface="Times New Roman"/>
                <a:ea typeface="Times New Roman"/>
              </a:rPr>
              <a:t>путем</a:t>
            </a:r>
            <a:r>
              <a:rPr b="1" lang="ru-RU" sz="2400" spc="-1" strike="noStrike">
                <a:solidFill>
                  <a:srgbClr val="000000"/>
                </a:solidFill>
                <a:latin typeface="Times New Roman"/>
                <a:ea typeface="Times New Roman"/>
              </a:rPr>
              <a:t> Конвенције о правима особа са инвалидитетом позвао све земље да примене тотално инклузивно образовањ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ли, у овом документу не постоје посебне смернице како би се остварила тотално инклузивно образовањ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928800"/>
            <a:ext cx="8229600" cy="5286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лан 24. намеће широки спектар законских дужности земљама у погледу осигурања доступности инклузивног образовањ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а би земље кренуле напријед са циљевима УН, потребне су јасне дефиниције инклузије и инклузивног образовањ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Јасно је да приступ „једна величина одговара свима“ неће одговарати свакој земљи јер ће дефиниција и примена инклузивног образовања зависити од економске, политичке, културне и социјалне политике сваке земљ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928800"/>
            <a:ext cx="8229600" cy="528624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ез обзира на конфузију у погледу дефиниција инклузије, из УНКПОИ (2016) је јасно шта инклузивно образовање није</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бразовању у посебним школама </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ити је интеграцији у редовне школе</a:t>
            </a:r>
            <a:endParaRPr b="0" lang="en-US" sz="2400" spc="-1" strike="noStrike">
              <a:solidFill>
                <a:srgbClr val="000000"/>
              </a:solidFill>
              <a:latin typeface="Arial"/>
            </a:endParaRPr>
          </a:p>
          <a:p>
            <a:pPr lvl="2" marL="1097280" indent="-2192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ако тренутно не постоји формална дефиниција коју нуди УНЦРПД, изричито је да се сегрегирано образовање у посебним школама не сматра компатибилним са инклузивним образовањем (де Бецо 2016; Цера 2015).</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утори који се противе тоталној инклузији истичу да постоје практичне потешкоће у пружањем истог образовања тако разноврсној групи уче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785880"/>
            <a:ext cx="8229600" cy="5340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 мом мишљењу, неки ученици би имали користи од инклузивног образовања, а други би у овом тренутку могли да задовоље своје потребе у специјалној школи. Изгледа да се одредба мора побољшати пре него што потпуно укључивање постане опција. Нисам сигуран да ли на инклузивно образовање треба гледати као на људско право. Ако има штетан утицај на образовање детета или на добробит особља, то није најбоља опција. Члан 26. Декларације о људским правима каже да сви имају право на добро образовање, а члан 25 каже да је благостање људи од највеће важности (Уједињене нације, 2009). Међутим, члан 24. може створити ситуацију у којој се та права редовно крш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ко је у неким случајевима јасно да инклузивно образовање не мора увек да задовољи потребе појединаца са СЕНД-ом и као такво не може бити морално исправно школовати ову децу у оквиру општег образовног система (Хорнби 2012).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ва и њихово промовисање и заштита налазе се у средишту члана 24. (УНЦРПД 2016), међутим, ако се појединачне потребе не задовоље, логично би се могло тврдити да се кључна права деце са СЕНД-ом не испуњавају. , што у основи подрива образложење члана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ко су одредбе члана 24. правно обавезујуће (Бродерицк, 2015), потез ка прогресивном остваривању потпуно инклузивног образовног система је реалност која се не може одбацити.</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НЦРПД проглашава право на инклузивно образовање за децу са инвалидитетом (УНЦРПД 2016), али тренутно не постоји консензус ни од УНЦРПД, ни у литератури о томе шта тачно значи концепт инклузије (Цера 2015; де Бецо 2016; Ссениоњо 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лан 24. заговара укључивање као основно људско право деце са инвалидитетом (УНЦРПД 2016), али критичари тврде да потпуно укључивање не узима у обзир морална права или изборе детета и зато није најприкладнија опција у свим случајевима (Хорнби 2012; Хорнби 2015; Митцхелл 2010). Сходно томе, тврди се да примена члана 24. неће довести до ситуације у којој ће сва деца са СЕНД-ом добити оптимал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785880"/>
            <a:ext cx="8229600" cy="5340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шење које нуди Хорнби (2014) је концепт инклузивног специјалног образовања, у коме би се специјалистички наставници и наставни програми пребацили из специјалних школа у редовна окружења са специјалним школама које пружају подршку и смернице редовним школама, истовремено обезбеђујући потребе деце са најтежи нивои СЕНД-а.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ђутим, како је члан 24. врло јасан у погледу свог става о одвојеним школама и одељењима (УНЦРПД 2016), остаје да се види каква ће бити будућност специјалног образовања и како ће се то претворити у праксу. Могло би се догодити да ће изазови у покушају спровођења члана 24 довести до поновне потврде посебног образовања у испуњавању потреба деце са СЕНД-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43000"/>
            <a:ext cx="7035840" cy="22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Да ли ће члан 24. УН довести до укидања специјалног образовања или до његове поновне афирмације</a:t>
            </a:r>
            <a:endParaRPr b="0" lang="en-US" sz="3200" spc="-1" strike="noStrike">
              <a:solidFill>
                <a:srgbClr val="000000"/>
              </a:solidFill>
              <a:latin typeface="Arial"/>
            </a:endParaRPr>
          </a:p>
        </p:txBody>
      </p:sp>
      <p:sp>
        <p:nvSpPr>
          <p:cNvPr id="80" name="Straight Connector 2"/>
          <p:cNvSpPr/>
          <p:nvPr/>
        </p:nvSpPr>
        <p:spPr>
          <a:xfrm flipH="1">
            <a:off x="3635280" y="3500280"/>
            <a:ext cx="511344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1"/>
          <p:cNvSpPr/>
          <p:nvPr/>
        </p:nvSpPr>
        <p:spPr>
          <a:xfrm>
            <a:off x="3780000" y="371628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лан 24 из Конвенције о правима особа са инвалидитетом (УНКПОИ) про</a:t>
            </a:r>
            <a:r>
              <a:rPr b="1" i="1" lang="mk-MK" sz="2400" spc="-1" strike="noStrike">
                <a:solidFill>
                  <a:srgbClr val="000000"/>
                </a:solidFill>
                <a:latin typeface="Times New Roman"/>
                <a:ea typeface="Times New Roman"/>
              </a:rPr>
              <a:t>кламује</a:t>
            </a:r>
            <a:r>
              <a:rPr b="1" i="1" lang="ru-RU" sz="2400" spc="-1" strike="noStrike">
                <a:solidFill>
                  <a:srgbClr val="000000"/>
                </a:solidFill>
                <a:latin typeface="Times New Roman"/>
                <a:ea typeface="Times New Roman"/>
              </a:rPr>
              <a:t> право на инклузивно образовање за с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28760" y="8571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ноге главне добротворне организације за особе са инвалидитетом „пооштриле су своју политику“ (Удружење за синдром Довна) о укључивању и сада препознају важност „специјалних јединиц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ного кампања за особе са инвалидитетом попут Националног аутистичног друштва и Менцап донедавно су биле снажне присталице строге линије инклузивне политике, али сада узимају прагматичнији приступ.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75920"/>
            <a:ext cx="8229600" cy="981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КО САМ И ШТА РАДИМ</a:t>
            </a:r>
            <a:endParaRPr b="0" lang="en-US" sz="2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Даниела Димитрова-Радојичић</a:t>
            </a:r>
            <a:r>
              <a:rPr b="1" lang="en-US" sz="2600" spc="-1" strike="noStrike">
                <a:solidFill>
                  <a:srgbClr val="000000"/>
                </a:solidFill>
                <a:latin typeface="Times New Roman"/>
                <a:ea typeface="Times New Roman"/>
              </a:rPr>
              <a:t>, </a:t>
            </a:r>
            <a:r>
              <a:rPr b="1" lang="mk-MK" sz="2600" spc="-1" strike="noStrike">
                <a:solidFill>
                  <a:srgbClr val="000000"/>
                </a:solidFill>
                <a:latin typeface="Times New Roman"/>
                <a:ea typeface="Times New Roman"/>
              </a:rPr>
              <a:t>редовни професор</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Универзитет „Св. Кирил и Методиј ”, Филозофски факултет, Институт за специјалну едукацију и рехабилитацију</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600" spc="-1" strike="noStrike">
                <a:solidFill>
                  <a:srgbClr val="000000"/>
                </a:solidFill>
                <a:latin typeface="Times New Roman"/>
                <a:ea typeface="Times New Roman"/>
              </a:rPr>
              <a:t>Е-маил </a:t>
            </a:r>
            <a:r>
              <a:rPr b="1" lang="en-US" sz="2600" spc="-1" strike="noStrike">
                <a:solidFill>
                  <a:srgbClr val="000000"/>
                </a:solidFill>
                <a:latin typeface="Times New Roman"/>
                <a:ea typeface="Times New Roman"/>
              </a:rPr>
              <a:t>: </a:t>
            </a:r>
            <a:r>
              <a:rPr b="1" lang="en-US" sz="2600" spc="-1" strike="noStrike">
                <a:solidFill>
                  <a:srgbClr val="00b050"/>
                </a:solidFill>
                <a:latin typeface="Times New Roman"/>
                <a:ea typeface="Times New Roman"/>
              </a:rPr>
              <a:t>daniela@fzf.ukim.edu.mk</a:t>
            </a: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слеи Цампбелл, државни дечји официр за Менцап, рекао је у недавном чланку да је „веома велика група деце успешно укључена, али морамо бити реални. Неки нису добро укључени и завршавају као избеглице из главних токова, у специјалним школама, на средњем нивоу. “Менцап у свом меморандуму каже да„ подржава концепт инклузивног образовања, што значи да свако дете треба да има приступ образовању у складу са њиховим потребама и потенциј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14200" y="571680"/>
            <a:ext cx="8444160" cy="5286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ло је пуно дискусија о томе да ли је потребно да се посебно образовање омогући особама са инвалидитето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к су неки чланови су сматрали да специјалне школе још увек требају постојати, други су сматрали да би инклузивно образовање требало да буде норм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 тим у вези, Стандардна правила признају да „у ситуације у којима редовни школски систем још увек не задовољава на одговарајући начин потребе </a:t>
            </a:r>
            <a:r>
              <a:rPr b="1" lang="ru-RU" sz="2400" spc="-1" strike="noStrike" u="sng">
                <a:solidFill>
                  <a:srgbClr val="000000"/>
                </a:solidFill>
                <a:uFillTx/>
                <a:latin typeface="Times New Roman"/>
                <a:ea typeface="Times New Roman"/>
              </a:rPr>
              <a:t>свих особа са инвалидитетом</a:t>
            </a:r>
            <a:r>
              <a:rPr b="1" lang="ru-RU" sz="2400" spc="-1" strike="noStrike">
                <a:solidFill>
                  <a:srgbClr val="000000"/>
                </a:solidFill>
                <a:latin typeface="Times New Roman"/>
                <a:ea typeface="Times New Roman"/>
              </a:rPr>
              <a:t>, може се размотрити специјал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4200" y="571680"/>
            <a:ext cx="8444160" cy="5286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чигледно је да је током нацрта састанка током преговора разговарано о питању да ли деца са инвалидитетом имају право да се одлуче за специјално школовање, али како открива коначна верзија члана 24., та је перспектива одбачена (</a:t>
            </a:r>
            <a:r>
              <a:rPr b="1" lang="en-US" sz="2400" spc="-1" strike="noStrike">
                <a:solidFill>
                  <a:srgbClr val="000000"/>
                </a:solidFill>
                <a:latin typeface="Times New Roman"/>
                <a:ea typeface="Times New Roman"/>
              </a:rPr>
              <a:t>de Beko 2016</a:t>
            </a:r>
            <a:r>
              <a:rPr b="1" lang="ru-RU" sz="2400" spc="-1" strike="noStrike">
                <a:solidFill>
                  <a:srgbClr val="000000"/>
                </a:solidFill>
                <a:latin typeface="Times New Roman"/>
                <a:ea typeface="Times New Roman"/>
              </a:rPr>
              <a:t>), што је делом, може бити последица недостатка доприноса стручњака за специјална образовања (</a:t>
            </a:r>
            <a:r>
              <a:rPr b="1" lang="en-US" sz="2400" spc="-1" strike="noStrike">
                <a:solidFill>
                  <a:srgbClr val="000000"/>
                </a:solidFill>
                <a:latin typeface="Times New Roman"/>
                <a:ea typeface="Times New Roman"/>
              </a:rPr>
              <a:t>Bakken and Oblakor 2016</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28760" y="928800"/>
            <a:ext cx="8229600" cy="5286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ога се постављају питања да ли би се сва дјеца требала школовати у оквиру опћег образовног система и да ли је за малу мањину дјеце инклузивно образовање заиста оствариво</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Arial"/>
              </a:rPr>
              <a:t>Члан 24 промовише инклузију као основно људско право деце са инвалидитетом (УНЦРПД 2016), али ово становиште изгледа помало идеалистички, а противници тврде да укључивање у редовне учионице можда није најприкладнија опција у свим случајевима, јер не узима у обзир дечја морална пр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кладу с тим, студије су нагласиле да су многи наставници у основним школама скептични у погледу практичне примене инклузије на нивоу учионице (</a:t>
            </a:r>
            <a:r>
              <a:rPr b="0" lang="en-US" sz="2400" spc="-1" strike="noStrike">
                <a:solidFill>
                  <a:srgbClr val="000000"/>
                </a:solidFill>
                <a:latin typeface="Times New Roman"/>
                <a:ea typeface="Times New Roman"/>
              </a:rPr>
              <a:t>Avramidis and Norwich 2002; Pijl et al. 2011; Ring 2005</a:t>
            </a:r>
            <a:r>
              <a:rPr b="0" lang="ru-RU" sz="2400" spc="-1" strike="noStrike">
                <a:solidFill>
                  <a:srgbClr val="000000"/>
                </a:solidFill>
                <a:latin typeface="Times New Roman"/>
                <a:ea typeface="Times New Roman"/>
              </a:rPr>
              <a:t>) и чини се да влада Велике Британије (УК) такође има сумње о прикладности укључивања у свим случајевима, јер су они били једина влада која је претходно ставила формални резерву против члана 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28760" y="1000080"/>
            <a:ext cx="8229600" cy="452592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јаснити конфузију између људских права и моралних права, само зато што неко има људско право на одређену опцију не значи да је то морално прави поступак за њих</a:t>
            </a:r>
            <a:r>
              <a:rPr b="0" lang="en-US" sz="2400" spc="-1" strike="noStrike">
                <a:solidFill>
                  <a:srgbClr val="000000"/>
                </a:solidFill>
                <a:latin typeface="Times New Roman"/>
                <a:ea typeface="Times New Roman"/>
              </a:rPr>
              <a:t> (Thomson 1990).</a:t>
            </a:r>
            <a:endParaRPr b="0" lang="en-US" sz="2400" spc="-1" strike="noStrike">
              <a:solidFill>
                <a:srgbClr val="000000"/>
              </a:solidFill>
              <a:latin typeface="Arial"/>
            </a:endParaRPr>
          </a:p>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акле, иако њихова људска права омогућавају да се деца са СЕНД-ом образују заједно са својим вршњацима, за неке од њих то, морално, не може бити права или најбоља опција</a:t>
            </a:r>
            <a:endParaRPr b="0" lang="en-US" sz="2400" spc="-1" strike="noStrike">
              <a:solidFill>
                <a:srgbClr val="000000"/>
              </a:solidFill>
              <a:latin typeface="Arial"/>
            </a:endParaRPr>
          </a:p>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 укључивању ученика са СЕНД-ом детаљно је говорио Схаддоцк (2006) који тврди да делови наставног плана и програма који се предају у учионицама можда неће бити приоритет за сву децу са СЕНД-ом, посебно тамо где постоји значајан јаз у академском нивоу између СЕНД-а ученици и њихови вршњац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8760" y="928800"/>
            <a:ext cx="8229600" cy="5286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еђутим, у богатијим државама деца са инвалидитетом често добијају специјално образовање, јер систем општег образовања није прилагођен њиховим индивидуалним потребам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ве се државе суочавају са посебним изазовима у прогресивном остваривању права на инклузив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 литературе се види да инклузивно образовање даје мешовите резултате. Недавно истраживање ефикасне праксе инклузивне учионице показало је да су исходи, и у погледу постигнућа и става према социјалној интеграцији деце са СЕНД-ом у главном смеру, били различити.</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ред тога, велики систематски преглед литературе о укључивању у земље са ниским и средњим приходима још једном није нашао дефинитивне доказе који би подупро идеју о бољим резултатима образовања за децу са СЕНД-ом у инклузивним учионицама (</a:t>
            </a:r>
            <a:r>
              <a:rPr b="0" lang="en-US" sz="2400" spc="-1" strike="noStrike">
                <a:solidFill>
                  <a:srgbClr val="000000"/>
                </a:solidFill>
                <a:latin typeface="Times New Roman"/>
                <a:ea typeface="Times New Roman"/>
              </a:rPr>
              <a:t>Wapling, </a:t>
            </a: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укупно, студија је открила да иако су ученици могли бити укључени у редовне школе до краја свог школског живота, то није осигурало да неће бити искључени из редовног друштва као одрасли (Хорнби и Кидд 2001).</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даље, Хорнби (2014) тврди да најважнији исход за особе са СЕНД-ом није нужно укључивање у редовне учионице, већ укључивање у своје заједнице након што заврше школ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28760" y="100008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nby</a:t>
            </a:r>
            <a:r>
              <a:rPr b="0" lang="ru-RU" sz="2400" spc="-1" strike="noStrike">
                <a:solidFill>
                  <a:srgbClr val="000000"/>
                </a:solidFill>
                <a:latin typeface="Times New Roman"/>
                <a:ea typeface="Times New Roman"/>
              </a:rPr>
              <a:t> (2014) тврди да, иако потребе многих деце са високим нивоом СЕНД-а могу бити задовољене у основним школама током првих година основног образовања, у време средње или средње школе, захтеви наставног плана и програма постају превелики за неке ове деце.</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dsay</a:t>
            </a:r>
            <a:r>
              <a:rPr b="0" lang="ru-RU" sz="2400" spc="-1" strike="noStrike">
                <a:solidFill>
                  <a:srgbClr val="000000"/>
                </a:solidFill>
                <a:latin typeface="Times New Roman"/>
                <a:ea typeface="Times New Roman"/>
              </a:rPr>
              <a:t> (2007) тврди да су емпиријски докази на којима се темељи укључивање контроверзни и умјесто тога сматра да би дјеца требала добити образовање које је одговарајуће и прилагођено њиховим индивидуалним потреб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85840" y="4284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800" spc="-1" strike="noStrike">
                <a:solidFill>
                  <a:srgbClr val="000000"/>
                </a:solidFill>
                <a:latin typeface="Times New Roman"/>
                <a:ea typeface="Times New Roman"/>
              </a:rPr>
              <a:t>СТРУКТУРА ПРЕЗЕНТАЦИЈЕ</a:t>
            </a:r>
            <a:endParaRPr b="0" lang="en-US" sz="2800" spc="-1" strike="noStrike">
              <a:solidFill>
                <a:srgbClr val="000000"/>
              </a:solidFill>
              <a:latin typeface="Arial"/>
            </a:endParaRPr>
          </a:p>
        </p:txBody>
      </p:sp>
      <p:sp>
        <p:nvSpPr>
          <p:cNvPr id="56" name=""/>
          <p:cNvSpPr txBox="1"/>
          <p:nvPr/>
        </p:nvSpPr>
        <p:spPr>
          <a:xfrm>
            <a:off x="357120" y="1285560"/>
            <a:ext cx="8229600" cy="50007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 </a:t>
            </a:r>
            <a:r>
              <a:rPr b="1" lang="ru-RU" sz="2400" spc="-1" strike="noStrike">
                <a:solidFill>
                  <a:srgbClr val="000000"/>
                </a:solidFill>
                <a:latin typeface="Times New Roman"/>
                <a:ea typeface="Times New Roman"/>
              </a:rPr>
              <a:t>анализира </a:t>
            </a:r>
            <a:r>
              <a:rPr b="1" lang="mk-MK" sz="2400" spc="-1" strike="noStrike">
                <a:solidFill>
                  <a:srgbClr val="000000"/>
                </a:solidFill>
                <a:latin typeface="Times New Roman"/>
                <a:ea typeface="Times New Roman"/>
              </a:rPr>
              <a:t>тоталну инклуију и </a:t>
            </a:r>
            <a:r>
              <a:rPr b="1" lang="ru-RU" sz="2400" spc="-1" strike="noStrike">
                <a:solidFill>
                  <a:srgbClr val="000000"/>
                </a:solidFill>
                <a:latin typeface="Times New Roman"/>
                <a:ea typeface="Times New Roman"/>
              </a:rPr>
              <a:t>права на образовање особа са инвалидитетом у оквиру Конвенције о </a:t>
            </a:r>
            <a:r>
              <a:rPr b="1" lang="ru-RU" sz="2400" spc="-1" strike="noStrike" u="sng">
                <a:solidFill>
                  <a:srgbClr val="000000"/>
                </a:solidFill>
                <a:uFillTx/>
                <a:latin typeface="Times New Roman"/>
                <a:ea typeface="Times New Roman"/>
              </a:rPr>
              <a:t>инвалидитетима </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тим се креће у расправу о изазовима у прогресивном остваривању права на инклузивно образовање као и ограничења прилагођавања општег образовног система деци са инвалидитетом. </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реће, </a:t>
            </a:r>
            <a:r>
              <a:rPr b="1" lang="mk-MK" sz="2400" spc="-1" strike="noStrike">
                <a:solidFill>
                  <a:srgbClr val="000000"/>
                </a:solidFill>
                <a:latin typeface="Times New Roman"/>
                <a:ea typeface="Times New Roman"/>
              </a:rPr>
              <a:t>рад</a:t>
            </a:r>
            <a:r>
              <a:rPr b="1" lang="ru-RU" sz="2400" spc="-1" strike="noStrike">
                <a:solidFill>
                  <a:srgbClr val="000000"/>
                </a:solidFill>
                <a:latin typeface="Times New Roman"/>
                <a:ea typeface="Times New Roman"/>
              </a:rPr>
              <a:t> испитује како осигуравање преласка на инклузивне образовне системе и како национални акциони планови за људска права и индикатори о људским правима могу помоћи постизању сврх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213920"/>
            <a:ext cx="8229600" cy="45262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гледни педагози попут баронице Варноцк </a:t>
            </a:r>
            <a:r>
              <a:rPr b="1" lang="en-US" sz="2400" spc="-1" strike="noStrike">
                <a:solidFill>
                  <a:srgbClr val="000000"/>
                </a:solidFill>
                <a:latin typeface="Times New Roman"/>
                <a:ea typeface="Times New Roman"/>
              </a:rPr>
              <a:t>(2005) </a:t>
            </a:r>
            <a:r>
              <a:rPr b="1" lang="ru-RU" sz="2400" spc="-1" strike="noStrike">
                <a:solidFill>
                  <a:srgbClr val="000000"/>
                </a:solidFill>
                <a:latin typeface="Times New Roman"/>
                <a:ea typeface="Times New Roman"/>
              </a:rPr>
              <a:t>поставили су сумњу у концепт инклузије о дјеци „под истим кровом“и била је отворено критична према начину на који је инклузија преведена у праксу, рекавши: "... све је више доказа да идеал инклузије</a:t>
            </a:r>
            <a:r>
              <a:rPr b="1" lang="en-US" sz="2400" spc="-1" strike="noStrike">
                <a:solidFill>
                  <a:srgbClr val="000000"/>
                </a:solidFill>
                <a:latin typeface="Times New Roman"/>
                <a:ea typeface="Times New Roman"/>
              </a:rPr>
              <a:t>…</a:t>
            </a:r>
            <a:r>
              <a:rPr b="1" lang="ru-RU" sz="2400" spc="-1" strike="noStrike">
                <a:solidFill>
                  <a:srgbClr val="000000"/>
                </a:solidFill>
                <a:latin typeface="Times New Roman"/>
                <a:ea typeface="Times New Roman"/>
              </a:rPr>
              <a:t> не функционише “</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ириам Росен, директорка образовања у Офстесту, описала је Офстедово гледиште као да:</a:t>
            </a:r>
            <a:endParaRPr b="0" lang="en-US" sz="2400" spc="-1" strike="noStrike">
              <a:solidFill>
                <a:srgbClr val="000000"/>
              </a:solidFill>
              <a:latin typeface="Arial"/>
            </a:endParaRPr>
          </a:p>
          <a:p>
            <a:pPr marL="322200" indent="-322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справа о пружању услуга предуго се фокусирала на бескорисну интерпретацију инклузије као места (</a:t>
            </a:r>
            <a:r>
              <a:rPr b="1" lang="mk-MK" sz="2400" spc="-1" strike="noStrike">
                <a:solidFill>
                  <a:srgbClr val="000000"/>
                </a:solidFill>
                <a:latin typeface="Times New Roman"/>
                <a:ea typeface="Times New Roman"/>
              </a:rPr>
              <a:t>п</a:t>
            </a:r>
            <a:r>
              <a:rPr b="1" lang="ru-RU" sz="2400" spc="-1" strike="noStrike">
                <a:solidFill>
                  <a:srgbClr val="000000"/>
                </a:solidFill>
                <a:latin typeface="Times New Roman"/>
                <a:ea typeface="Times New Roman"/>
              </a:rPr>
              <a:t>осебног или редовно), а не на оно што ученици пости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57120" y="642960"/>
            <a:ext cx="8229600" cy="45259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жда ће неколицина ученика имати користи од специјалног образовања и требало би им омогућити могућност похађања посебне школе ако желе.</a:t>
            </a:r>
            <a:endParaRPr b="0" lang="en-US" sz="2400" spc="-1" strike="noStrike">
              <a:solidFill>
                <a:srgbClr val="000000"/>
              </a:solidFill>
              <a:latin typeface="Arial"/>
            </a:endParaRPr>
          </a:p>
          <a:p>
            <a:pPr marL="308520" indent="-3085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ецијалне школе могу ученицима пружити широк спектар специјализованих ресурса, који у основним школама можда нису лако доступни, како би помогли да подрже њихове потребе</a:t>
            </a:r>
            <a:endParaRPr b="0" lang="en-US" sz="2400" spc="-1" strike="noStrike">
              <a:solidFill>
                <a:srgbClr val="000000"/>
              </a:solidFill>
              <a:latin typeface="Arial"/>
            </a:endParaRPr>
          </a:p>
          <a:p>
            <a:pPr marL="308520" indent="-3085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јерујем да посебне школе представљају негативну слику инвалидитета и то може стигматизирати особе с инвалидитетом у њиховој заједници. Међутим, нисам сигуран да ли ће потпуно инклузивно образовање у пракси то успети да преброди. Из мог истраживања изгледа да тренутна инклузивна понуда води сегрегацији и изолацији деце са СЕН у редовним школама (</a:t>
            </a:r>
            <a:r>
              <a:rPr b="0" lang="en-US" sz="2400" spc="-1" strike="noStrike">
                <a:solidFill>
                  <a:srgbClr val="000000"/>
                </a:solidFill>
                <a:latin typeface="Times New Roman"/>
                <a:ea typeface="Times New Roman"/>
              </a:rPr>
              <a:t>Allan, 2008</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642600"/>
            <a:ext cx="8229600" cy="548316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тичан сам и према аргументу да специјалне школе не могу ученицима са инвалидитетом да дају адекватно и равноправно образовање</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ецијалне школе пружају ресурсе који </a:t>
            </a:r>
            <a:r>
              <a:rPr b="0" lang="mk-MK" sz="2400" spc="-1" strike="noStrike">
                <a:solidFill>
                  <a:srgbClr val="000000"/>
                </a:solidFill>
                <a:latin typeface="Times New Roman"/>
                <a:ea typeface="Times New Roman"/>
              </a:rPr>
              <a:t>често</a:t>
            </a:r>
            <a:r>
              <a:rPr b="0" lang="ru-RU" sz="2400" spc="-1" strike="noStrike">
                <a:solidFill>
                  <a:srgbClr val="000000"/>
                </a:solidFill>
                <a:latin typeface="Times New Roman"/>
                <a:ea typeface="Times New Roman"/>
              </a:rPr>
              <a:t> нису доступни у редовној школи. Особље је такође обучено посебно да удовољи потребама ученика са СЕН, што нажалост није увек случај у редовном образовању. Узимајући то у обзир, нисам сигуран да ли инклузивно образовање треба посматрати као људско право. Верујем да би требало да буде право особе са инвалидитетом да има могућност избора где да се образоује То би такође требало да буде право на равноправно и адекватно образовање, које омогућава ученицима да остваре свој пуни потенцијал, без обзира на то где се одвија, како Фаррелл (2006, стр. 2) тврди „Главна карактеристика школа не може бити инклузија; то мора да је образовањ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28760" y="1213920"/>
            <a:ext cx="8229600" cy="4526280"/>
          </a:xfrm>
          <a:prstGeom prst="rect">
            <a:avLst/>
          </a:prstGeom>
          <a:noFill/>
          <a:ln w="0">
            <a:noFill/>
          </a:ln>
        </p:spPr>
        <p:txBody>
          <a:bodyPr anchor="t">
            <a:normAutofit fontScale="96000"/>
          </a:bodyPr>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је истраживање показало је да постоји низ проблема са спровођењем инклузивног образовања, а тренутно у нашем друштву још увек постоји места за специјалне школе.</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ренутно не бисмо требали да посматрамо специјалне школе као „крајња места“, јер су оне још увек потребне одређеним ученицима. Поред тога, ученици са СЕН-ом би требали да одаберу које образовање им одговара.</a:t>
            </a:r>
            <a:endParaRPr b="0" lang="en-US" sz="2400" spc="-1" strike="noStrike">
              <a:solidFill>
                <a:srgbClr val="000000"/>
              </a:solidFill>
              <a:latin typeface="Arial"/>
            </a:endParaRPr>
          </a:p>
          <a:p>
            <a:pPr marL="329040" indent="-3290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rell</a:t>
            </a:r>
            <a:r>
              <a:rPr b="0" lang="ru-RU" sz="2400" spc="-1" strike="noStrike">
                <a:solidFill>
                  <a:srgbClr val="000000"/>
                </a:solidFill>
                <a:latin typeface="Times New Roman"/>
                <a:ea typeface="Times New Roman"/>
              </a:rPr>
              <a:t> (2006, стр. 23) предлаже 'оптимално учење' као алтернативу инклузији. Предлаже да би посебне школе и основне школе могле ефикасно сарађивати у стварању образовног система који омогућава ученицима да остваре свој пуни потенција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тренутној образовној клими шта доносиоци политика и практичари виде као границе инклузивног образовања?</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ктично стање инклузивног образовања у многим земљама се увелико разликује, између и чак унутар школа. Као што је Аллан (2008) закључио: „Изгледа да постоји дубока несигурност око стварања инклузивног окружења у школама и како инклузивно подучавати“ (10). Чини се да у свим земљама постоји јаз између формулација и реализације инклузивног образовања. „Ако је укључивање, са сву сложеност, тако важан принцип, зашто то није самосталан ентитет у политици? И зашто се инклузија толико често спомиње само успут у многим политикама? “(Харди и Воодцоцк 2015, 1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57120" y="500040"/>
            <a:ext cx="8229600" cy="4525920"/>
          </a:xfrm>
          <a:prstGeom prst="rect">
            <a:avLst/>
          </a:prstGeom>
          <a:noFill/>
          <a:ln w="0">
            <a:noFill/>
          </a:ln>
        </p:spPr>
        <p:txBody>
          <a:bodyPr anchor="t">
            <a:normAutofit fontScale="86000"/>
          </a:bodyPr>
          <a:p>
            <a:pPr marL="294840" indent="-294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тудији о истраживању инклузије, Горанссон и Нилхолм (2014) идентификовали су четири нивоа дефиниција, илуструјући уске и широке дефиниције. Ови резултати су у складу са типологијом коју су развили Аинсцов, Боотх и Дисон (2006), Горанссон и Нилхолм-ов (2014) први ниво. Остала три су вишеструко оријентисана. Прве две категорије представљају уску дефиницију инклузије и баве се само образовањем ученика са инвалидитетом. Најнижи степен је смештања ученика са инвалидитетом у учионицу са опћим образовањем. Слиједи инклузија као испуњавање социјалних и / или академских потреба ових студената. Следеће две категорије баве се широком дефиницијом и тичу се образовања за све студенте. Односно, инклузија да би се задовољиле социјалне и / или академске потребе свих студената и, на крају, инклузија у стварање заједн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 је довело до тога да се неки позивају на замену реторике „потпуне инклузије“ промоцијом „одговорног укључивања“ (Ваугхн и Сцхумм, 1995; Хорнби, 1999) или „опрезне инклузије“ (Кауффман, 1995; Фуцхс и Фуцхс, 1994), док је Фаррелл (2000) истакао „врло стварне потешкоће у које се може наићи ако се аргументи о инклузивном образовању воде искључиво у смислу људских права“. </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недавном издању који се фокусирао на „омогућавање укључивања“, О’Бриен (2001) сугерише да „морамо одговорити интегритетно на питања о томе где и како ученик најбоље учи“ (стр. 4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петост између идеологије и логике истакао је Вилсон (1999, 2000), који сугерише да је примереније питати које врсте учења заправо одговарају типовима ученика него покушати да се једна школа направи свим ученицим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ли шта инклузија значи у пракси? Да ли то значи да локална школа треба да обезбеди 100 одсто својих локалних ученика, 99 или 98 одсто, или неку другу пропорцију? Да ли то значи да би се сви ученици требали школовати заједно у истом разреду или у истој школи и са истим учитељем? Да ли поједине школе требају укључивати поједине ученике, омогућавајући тако ученицима да похађају редовну, али не и своју локалну школу? Пијл и Меијер (1991) закључили су из студије ОЕЦД-а да се „земље чини да се слажу да је најмање 1,5 одсто ученика тешко да се интегришу на наставни ниво у редовно образов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3200" spc="-1" strike="noStrike">
                <a:solidFill>
                  <a:srgbClr val="000000"/>
                </a:solidFill>
                <a:latin typeface="Arial"/>
              </a:rPr>
              <a:t>Када одлучује где да предаје студенте, Варноцк (2005) даје предност месту где студенти имају највећи потенцијал за учење, у комбинацији са осећајем припадности и благостања. Бенефит тада постаје супериорнији у односу на заједништво и партиципацију у одлучивању о смјештају, што би такође могло бити аргумент за задржавање посебних школа унутар инклузивне идеологиј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143000"/>
            <a:ext cx="7035840" cy="22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Инклузивно образовање </a:t>
            </a:r>
            <a:r>
              <a:rPr b="1" lang="en-US" sz="3200" spc="-1" strike="noStrike">
                <a:solidFill>
                  <a:srgbClr val="000000"/>
                </a:solidFill>
                <a:latin typeface="Times New Roman"/>
                <a:ea typeface="Times New Roman"/>
              </a:rPr>
              <a:t>VS </a:t>
            </a:r>
            <a:br>
              <a:rPr sz="3200"/>
            </a:br>
            <a:r>
              <a:rPr b="1" lang="mk-MK" sz="3200" spc="-1" strike="noStrike">
                <a:solidFill>
                  <a:srgbClr val="000000"/>
                </a:solidFill>
                <a:latin typeface="Times New Roman"/>
                <a:ea typeface="Times New Roman"/>
              </a:rPr>
              <a:t>Тотално инклузивно образовање</a:t>
            </a:r>
            <a:endParaRPr b="0" lang="en-US" sz="3200" spc="-1" strike="noStrike">
              <a:solidFill>
                <a:srgbClr val="000000"/>
              </a:solidFill>
              <a:latin typeface="Arial"/>
            </a:endParaRPr>
          </a:p>
        </p:txBody>
      </p:sp>
      <p:sp>
        <p:nvSpPr>
          <p:cNvPr id="58" name="Straight Connector 2"/>
          <p:cNvSpPr/>
          <p:nvPr/>
        </p:nvSpPr>
        <p:spPr>
          <a:xfrm flipH="1">
            <a:off x="3635280" y="3500280"/>
            <a:ext cx="511344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
          <p:cNvSpPr/>
          <p:nvPr/>
        </p:nvSpPr>
        <p:spPr>
          <a:xfrm>
            <a:off x="3780000" y="3716280"/>
            <a:ext cx="514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ИО је један од највећих изазова са којим се данас суочавају </a:t>
            </a:r>
            <a:r>
              <a:rPr b="1" i="1" lang="mk-MK" sz="2400" spc="-1" strike="noStrike">
                <a:solidFill>
                  <a:srgbClr val="000000"/>
                </a:solidFill>
                <a:latin typeface="Times New Roman"/>
                <a:ea typeface="Times New Roman"/>
              </a:rPr>
              <a:t>сви </a:t>
            </a:r>
            <a:r>
              <a:rPr b="1" i="1" lang="ru-RU" sz="2400" spc="-1" strike="noStrike">
                <a:solidFill>
                  <a:srgbClr val="000000"/>
                </a:solidFill>
                <a:latin typeface="Times New Roman"/>
                <a:ea typeface="Times New Roman"/>
              </a:rPr>
              <a:t>образовни системи, било да се ради о земљама у развоју, транзицији или развијеним земљ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
          <p:cNvPicPr/>
          <p:nvPr/>
        </p:nvPicPr>
        <p:blipFill>
          <a:blip r:embed="rId1"/>
          <a:stretch/>
        </p:blipFill>
        <p:spPr>
          <a:xfrm>
            <a:off x="457200" y="1600200"/>
            <a:ext cx="8229600" cy="4525920"/>
          </a:xfrm>
          <a:prstGeom prst="rect">
            <a:avLst/>
          </a:prstGeom>
          <a:ln w="0">
            <a:noFill/>
          </a:ln>
        </p:spPr>
      </p:pic>
      <p:pic>
        <p:nvPicPr>
          <p:cNvPr id="112" name="Picture 2" descr="Image result for GÃ¶ransson and Nilholm (2014)"/>
          <p:cNvPicPr/>
          <p:nvPr/>
        </p:nvPicPr>
        <p:blipFill>
          <a:blip r:embed="rId2"/>
          <a:stretch/>
        </p:blipFill>
        <p:spPr>
          <a:xfrm>
            <a:off x="428760" y="571680"/>
            <a:ext cx="8096040" cy="4924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28400" y="857160"/>
            <a:ext cx="842940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 међународном плану постоје 4 еволуцијски пут ка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клузији (</a:t>
            </a:r>
            <a:r>
              <a:rPr b="0" lang="en-US" sz="2400" spc="-1" strike="noStrike">
                <a:solidFill>
                  <a:srgbClr val="000000"/>
                </a:solidFill>
                <a:latin typeface="Times New Roman"/>
                <a:ea typeface="Times New Roman"/>
              </a:rPr>
              <a:t>Opertti, Walker &amp; Zhang, 2014)</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1. људским правима (1948–)</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децу са сметњама у развоју (199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3. маргинализоване групе (20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4. трансформисање образовних система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3200" spc="-1" strike="noStrike">
                <a:solidFill>
                  <a:srgbClr val="000000"/>
                </a:solidFill>
                <a:latin typeface="Times New Roman"/>
                <a:ea typeface="Times New Roman"/>
              </a:rPr>
              <a:t>Инклузија је ...</a:t>
            </a:r>
            <a:endParaRPr b="0" lang="en-US" sz="3200" spc="-1" strike="noStrike">
              <a:solidFill>
                <a:srgbClr val="000000"/>
              </a:solidFill>
              <a:latin typeface="Arial"/>
            </a:endParaRPr>
          </a:p>
        </p:txBody>
      </p:sp>
      <p:sp>
        <p:nvSpPr>
          <p:cNvPr id="61" name=""/>
          <p:cNvSpPr txBox="1"/>
          <p:nvPr/>
        </p:nvSpPr>
        <p:spPr>
          <a:xfrm>
            <a:off x="500040" y="19288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2400" spc="-1" strike="noStrike">
                <a:solidFill>
                  <a:srgbClr val="000000"/>
                </a:solidFill>
                <a:latin typeface="Times New Roman"/>
                <a:ea typeface="Times New Roman"/>
              </a:rPr>
              <a:t>Већина </a:t>
            </a:r>
            <a:r>
              <a:rPr b="1" lang="mk-MK" sz="2400" spc="-1" strike="noStrike">
                <a:solidFill>
                  <a:srgbClr val="000000"/>
                </a:solidFill>
                <a:latin typeface="Times New Roman"/>
                <a:ea typeface="Times New Roman"/>
              </a:rPr>
              <a:t>аутора</a:t>
            </a:r>
            <a:r>
              <a:rPr b="1" lang="ru-RU" sz="2400" spc="-1" strike="noStrike">
                <a:solidFill>
                  <a:srgbClr val="000000"/>
                </a:solidFill>
                <a:latin typeface="Times New Roman"/>
                <a:ea typeface="Times New Roman"/>
              </a:rPr>
              <a:t> слаже се око две ствари о инклузије</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a:t>
            </a:r>
            <a:r>
              <a:rPr b="1" lang="ru-R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нклузија не односи се само на </a:t>
            </a:r>
            <a:r>
              <a:rPr b="1" lang="ru-RU" sz="2400" spc="-1" strike="noStrike" u="sng">
                <a:solidFill>
                  <a:srgbClr val="000000"/>
                </a:solidFill>
                <a:uFillTx/>
                <a:latin typeface="Times New Roman"/>
                <a:ea typeface="Times New Roman"/>
              </a:rPr>
              <a:t>физички положај</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инклузија </a:t>
            </a:r>
            <a:r>
              <a:rPr b="1" lang="en-US" sz="2400" spc="-1" strike="noStrike">
                <a:solidFill>
                  <a:srgbClr val="000000"/>
                </a:solidFill>
                <a:latin typeface="Times New Roman"/>
                <a:ea typeface="Times New Roman"/>
              </a:rPr>
              <a:t>je </a:t>
            </a:r>
            <a:r>
              <a:rPr b="1" lang="ru-RU" sz="2400" spc="-1" strike="noStrike">
                <a:solidFill>
                  <a:srgbClr val="000000"/>
                </a:solidFill>
                <a:latin typeface="Times New Roman"/>
                <a:ea typeface="Times New Roman"/>
              </a:rPr>
              <a:t>концепт који је тешко дефинисати и </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зато </a:t>
            </a:r>
            <a:r>
              <a:rPr b="1" lang="mk-MK" sz="2400" spc="-1" strike="noStrike">
                <a:solidFill>
                  <a:srgbClr val="000000"/>
                </a:solidFill>
                <a:latin typeface="Times New Roman"/>
                <a:ea typeface="Times New Roman"/>
              </a:rPr>
              <a:t>постоје </a:t>
            </a:r>
            <a:r>
              <a:rPr b="1" lang="ru-RU" sz="2400" spc="-1" strike="noStrike">
                <a:solidFill>
                  <a:srgbClr val="000000"/>
                </a:solidFill>
                <a:latin typeface="Times New Roman"/>
                <a:ea typeface="Times New Roman"/>
              </a:rPr>
              <a:t>различитих интерпретац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71320" y="1928520"/>
            <a:ext cx="8143560" cy="41432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0000"/>
                </a:solidFill>
                <a:latin typeface="Times New Roman"/>
                <a:ea typeface="Times New Roman"/>
              </a:rPr>
              <a:t>Кључни елемент који описује и нагласује главну разлику између ИНКЛУЗИЈА и ТОАТАЛНА ИНКЛУЗИЈА је реч СВЕ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0000"/>
                </a:solidFill>
                <a:latin typeface="Times New Roman"/>
                <a:ea typeface="Times New Roman"/>
              </a:rPr>
              <a:t>ТОАТАЛНА ИНКЛУЗИЈА захтева</a:t>
            </a:r>
            <a:r>
              <a:rPr b="1" lang="en-US" sz="2400" spc="-1" strike="noStrike">
                <a:solidFill>
                  <a:srgbClr val="000000"/>
                </a:solidFill>
                <a:latin typeface="Times New Roman"/>
                <a:ea typeface="Times New Roman"/>
              </a:rPr>
              <a:t> </a:t>
            </a:r>
            <a:r>
              <a:rPr b="0" lang="mk-MK"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essling-Hux, 2017</a:t>
            </a:r>
            <a:r>
              <a:rPr b="0" lang="mk-MK" sz="20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mk-MK" sz="2400" spc="-1" strike="noStrike">
                <a:solidFill>
                  <a:srgbClr val="000000"/>
                </a:solidFill>
                <a:latin typeface="Times New Roman"/>
                <a:ea typeface="Times New Roman"/>
              </a:rPr>
              <a:t> пружање СВИХ образовних услуга у оквиру </a:t>
            </a:r>
            <a:r>
              <a:rPr b="1" lang="en-US" sz="2400" spc="-1" strike="noStrike">
                <a:solidFill>
                  <a:srgbClr val="000000"/>
                </a:solidFill>
                <a:latin typeface="Times New Roman"/>
                <a:ea typeface="Times New Roman"/>
              </a:rPr>
              <a:t>	</a:t>
            </a:r>
            <a:r>
              <a:rPr b="1" lang="mk-MK" sz="2400" spc="-1" strike="noStrike">
                <a:solidFill>
                  <a:srgbClr val="000000"/>
                </a:solidFill>
                <a:latin typeface="Times New Roman"/>
                <a:ea typeface="Times New Roman"/>
              </a:rPr>
              <a:t>редовне учионице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mk-MK" sz="2400" spc="-1" strike="noStrike">
                <a:solidFill>
                  <a:srgbClr val="000000"/>
                </a:solidFill>
                <a:latin typeface="Times New Roman"/>
                <a:ea typeface="Times New Roman"/>
              </a:rPr>
              <a:t>за СВУ децу, без обзира на тежину </a:t>
            </a:r>
            <a:r>
              <a:rPr b="1" lang="mk-MK" sz="2400" spc="-1" strike="noStrike" u="sng">
                <a:solidFill>
                  <a:srgbClr val="000000"/>
                </a:solidFill>
                <a:uFillTx/>
                <a:latin typeface="Times New Roman"/>
                <a:ea typeface="Times New Roman"/>
              </a:rPr>
              <a:t>инвалидитета</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mk-MK" sz="2400" spc="-1" strike="noStrike">
                <a:solidFill>
                  <a:srgbClr val="000000"/>
                </a:solidFill>
                <a:latin typeface="Times New Roman"/>
                <a:ea typeface="Times New Roman"/>
              </a:rPr>
              <a:t>и то СВЕ време</a:t>
            </a:r>
            <a:endParaRPr b="0" lang="en-US" sz="2400" spc="-1" strike="noStrike">
              <a:solidFill>
                <a:srgbClr val="000000"/>
              </a:solidFill>
              <a:latin typeface="Arial"/>
            </a:endParaRPr>
          </a:p>
        </p:txBody>
      </p:sp>
      <p:sp>
        <p:nvSpPr>
          <p:cNvPr id="63"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3200" spc="-1" strike="noStrike">
                <a:solidFill>
                  <a:srgbClr val="000000"/>
                </a:solidFill>
                <a:latin typeface="Times New Roman"/>
                <a:ea typeface="Times New Roman"/>
              </a:rPr>
              <a:t>Тотална инклузија ј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8760" y="642960"/>
            <a:ext cx="8229600" cy="4525920"/>
          </a:xfrm>
          <a:prstGeom prst="rect">
            <a:avLst/>
          </a:prstGeom>
          <a:noFill/>
          <a:ln w="0">
            <a:noFill/>
          </a:ln>
        </p:spPr>
        <p:txBody>
          <a:bodyPr anchor="t">
            <a:normAutofit fontScale="84000"/>
          </a:bodyPr>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 литератури постоје два различита става ка </a:t>
            </a:r>
            <a:r>
              <a:rPr b="1" lang="mk-MK" sz="2400" spc="-1" strike="noStrike">
                <a:solidFill>
                  <a:srgbClr val="000000"/>
                </a:solidFill>
                <a:latin typeface="Times New Roman"/>
                <a:ea typeface="Times New Roman"/>
              </a:rPr>
              <a:t>тоталну инклузију</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ru-RU" sz="2400" spc="-1" strike="noStrike">
                <a:solidFill>
                  <a:srgbClr val="000000"/>
                </a:solidFill>
                <a:latin typeface="Times New Roman"/>
                <a:ea typeface="Times New Roman"/>
              </a:rPr>
              <a:t> оних који верују </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o</a:t>
            </a:r>
            <a:r>
              <a:rPr b="1" lang="ru-RU" sz="2400" spc="-1" strike="noStrike">
                <a:solidFill>
                  <a:srgbClr val="000000"/>
                </a:solidFill>
                <a:latin typeface="Times New Roman"/>
                <a:ea typeface="Times New Roman"/>
              </a:rPr>
              <a:t>них који не верују у овај концепт </a:t>
            </a:r>
            <a:endParaRPr b="0" lang="en-US" sz="2400" spc="-1" strike="noStrike">
              <a:solidFill>
                <a:srgbClr val="000000"/>
              </a:solidFill>
              <a:latin typeface="Arial"/>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говорници тоталне инклузије верују да ако би ученици са СР били у потпуности укључени у редовну учионицу, имали би социјална и академска корист, више него њихови вршњаци у посебним школама</a:t>
            </a:r>
            <a:endParaRPr b="0" lang="en-US" sz="2400" spc="-1" strike="noStrike">
              <a:solidFill>
                <a:srgbClr val="000000"/>
              </a:solidFill>
              <a:latin typeface="Arial"/>
            </a:endParaRPr>
          </a:p>
          <a:p>
            <a:pPr marL="288000" indent="-2880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меричког удружења за особе са инвалидитетом (2012) не подржавају тоталну инклузију нити било коју другу политику која предвиђала исти смештај, инструкције или третман за све ученике са СР </a:t>
            </a:r>
            <a:r>
              <a:rPr b="0" lang="ru-R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Hessling-Hux, 2017</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288000" indent="-2880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571680" y="1714680"/>
          <a:ext cx="8229600" cy="3925800"/>
        </p:xfrm>
        <a:graphic>
          <a:graphicData uri="http://schemas.openxmlformats.org/drawingml/2006/table">
            <a:tbl>
              <a:tblPr/>
              <a:tblGrid>
                <a:gridCol w="4114800"/>
                <a:gridCol w="4114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2060"/>
                          </a:solidFill>
                          <a:latin typeface="Times New Roman"/>
                          <a:ea typeface="Times New Roman"/>
                        </a:rPr>
                        <a:t>Инклузиј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2400" spc="-1" strike="noStrike">
                          <a:solidFill>
                            <a:srgbClr val="002060"/>
                          </a:solidFill>
                          <a:latin typeface="Times New Roman"/>
                          <a:ea typeface="Times New Roman"/>
                        </a:rPr>
                        <a:t>Тотална инклузиј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85800">
                <a:tc>
                  <a: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ецу са </a:t>
                      </a:r>
                      <a:r>
                        <a:rPr b="0" lang="mk-MK" sz="2400" spc="-1" strike="noStrike">
                          <a:solidFill>
                            <a:srgbClr val="000000"/>
                          </a:solidFill>
                          <a:latin typeface="Times New Roman"/>
                          <a:ea typeface="Times New Roman"/>
                        </a:rPr>
                        <a:t>сензорним </a:t>
                      </a:r>
                      <a:r>
                        <a:rPr b="0" lang="ru-RU" sz="2400" spc="-1" strike="noStrike">
                          <a:solidFill>
                            <a:srgbClr val="000000"/>
                          </a:solidFill>
                          <a:latin typeface="Times New Roman"/>
                          <a:ea typeface="Times New Roman"/>
                        </a:rPr>
                        <a:t>оштећењима, поремећаји у учењу, поремећаји понашања и блага ИП</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k-MK" sz="2400" spc="-1" strike="noStrike">
                          <a:solidFill>
                            <a:srgbClr val="000000"/>
                          </a:solidFill>
                          <a:latin typeface="Times New Roman"/>
                          <a:ea typeface="Times New Roman"/>
                        </a:rPr>
                        <a:t>д</a:t>
                      </a:r>
                      <a:r>
                        <a:rPr b="0" lang="ru-RU" sz="2400" spc="-1" strike="noStrike">
                          <a:solidFill>
                            <a:srgbClr val="000000"/>
                          </a:solidFill>
                          <a:latin typeface="Times New Roman"/>
                          <a:ea typeface="Times New Roman"/>
                        </a:rPr>
                        <a:t>еца</a:t>
                      </a:r>
                      <a:r>
                        <a:rPr b="0" lang="en-US" sz="2400" spc="-1" strike="noStrike">
                          <a:solidFill>
                            <a:srgbClr val="000000"/>
                          </a:solidFill>
                          <a:latin typeface="Times New Roman"/>
                          <a:ea typeface="Times New Roman"/>
                        </a:rPr>
                        <a:t> </a:t>
                      </a:r>
                      <a:r>
                        <a:rPr b="0" lang="mk-MK" sz="2400" spc="-1" strike="noStrike">
                          <a:solidFill>
                            <a:srgbClr val="000000"/>
                          </a:solidFill>
                          <a:latin typeface="Times New Roman"/>
                          <a:ea typeface="Times New Roman"/>
                        </a:rPr>
                        <a:t>СР треба да </a:t>
                      </a:r>
                      <a:r>
                        <a:rPr b="0" lang="ru-RU" sz="2400" spc="-1" strike="noStrike">
                          <a:solidFill>
                            <a:srgbClr val="000000"/>
                          </a:solidFill>
                          <a:latin typeface="Times New Roman"/>
                          <a:ea typeface="Times New Roman"/>
                        </a:rPr>
                        <a:t>добију одговарајуће академске инструкције</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ецу са тешким СР</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новни посао едукатора је да  помогну деци са СР да успоставе пријатељства са децама без СР</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лиминацијом посебних школа учитељи морају да трансформишу часове која одговарају свих деце</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66" name="Rectangle 2"/>
          <p:cNvSpPr/>
          <p:nvPr/>
        </p:nvSpPr>
        <p:spPr>
          <a:xfrm>
            <a:off x="1000080" y="571680"/>
            <a:ext cx="750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злике између инклузију и тоталну инјлузиј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43000"/>
            <a:ext cx="7035840" cy="22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Зашто тотална инклузија</a:t>
            </a:r>
            <a:endParaRPr b="0" lang="en-US" sz="3200" spc="-1" strike="noStrike">
              <a:solidFill>
                <a:srgbClr val="000000"/>
              </a:solidFill>
              <a:latin typeface="Arial"/>
            </a:endParaRPr>
          </a:p>
        </p:txBody>
      </p:sp>
      <p:sp>
        <p:nvSpPr>
          <p:cNvPr id="68" name="Straight Connector 2"/>
          <p:cNvSpPr/>
          <p:nvPr/>
        </p:nvSpPr>
        <p:spPr>
          <a:xfrm flipH="1">
            <a:off x="3635280" y="3500280"/>
            <a:ext cx="511344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Rectangle 1"/>
          <p:cNvSpPr/>
          <p:nvPr/>
        </p:nvSpPr>
        <p:spPr>
          <a:xfrm>
            <a:off x="3780000" y="371628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лан 24 из Конвенције о правима особа са инвалидитетом (УНКПОИ) про</a:t>
            </a:r>
            <a:r>
              <a:rPr b="1" i="1" lang="mk-MK" sz="2400" spc="-1" strike="noStrike">
                <a:solidFill>
                  <a:srgbClr val="000000"/>
                </a:solidFill>
                <a:latin typeface="Times New Roman"/>
                <a:ea typeface="Times New Roman"/>
              </a:rPr>
              <a:t>кламује</a:t>
            </a:r>
            <a:r>
              <a:rPr b="1" i="1" lang="ru-RU" sz="2400" spc="-1" strike="noStrike">
                <a:solidFill>
                  <a:srgbClr val="000000"/>
                </a:solidFill>
                <a:latin typeface="Times New Roman"/>
                <a:ea typeface="Times New Roman"/>
              </a:rPr>
              <a:t> право на инклузивно образовање за с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Srbo</cp:lastModifiedBy>
  <dcterms:modified xsi:type="dcterms:W3CDTF">2019-08-30T16:21:30Z</dcterms:modified>
  <cp:revision>854</cp:revision>
  <dc:subject/>
  <dc:title>Diapositiva 1</dc:title>
</cp:coreProperties>
</file>